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353-8DFD-4EE3-943F-41570A9F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367-F22F-430B-9B3B-7BB569EE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80C-A9EA-4423-B9FD-637852DA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BF1-45A6-42DC-B768-96A447B1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B4B-7D03-4B0E-A3DB-2C367048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41B-E423-431F-920D-C93DA34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E05E-078E-4B93-BB08-05C6F901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850F-F1E5-4AD8-9828-6A3D6E81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9EF5-75DD-4871-87B3-E963EF23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6A19-4324-4587-89A3-00C76BF0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9895-FE91-44CE-BB77-3FEAA5B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CA1-D785-4544-9386-D30010DA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B949-C8BA-4D83-8F60-FB71079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FEE7-051B-4B55-80D3-EC29F5C0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9AA0-7CA0-46D4-B101-09B91F70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6E2-AD30-4A39-B75A-A0F36BA1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E87-F3E8-49A8-8029-8B3F6901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6AE-D39F-4724-91F5-C07FA83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76F-9491-47CC-A5B8-48C7281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E3B-7A8F-471B-98F0-4BB58BA6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90D-58C0-4D2E-8A9A-D96F39D3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C25-30EE-4888-8858-021E5C6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4A2-6159-49A3-8E7D-423085B7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F60-5F59-4D14-9559-98B993B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C67-E156-4F99-B764-80C88AA170A5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47C0-D063-49B4-8AD1-9E04D401042A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hyperlink" Target="http://languagearts.pppst.com/cause-effect.html" TargetMode="External"/><Relationship Id="rId2" Type="http://schemas.openxmlformats.org/officeDocument/2006/relationships/hyperlink" Target="http://languagearts.pppst.com/compoundwords.html" TargetMode="External"/><Relationship Id="rId3" Type="http://schemas.openxmlformats.org/officeDocument/2006/relationships/hyperlink" Target="http://www.pbs.org/wonders/Kids/kids.htm" TargetMode="External"/><Relationship Id="rId4" Type="http://schemas.openxmlformats.org/officeDocument/2006/relationships/hyperlink" Target="http://www.pbs.org/wonders/Kids/kids.htm" TargetMode="External"/><Relationship Id="rId5" Type="http://schemas.openxmlformats.org/officeDocument/2006/relationships/hyperlink" Target="http://www.pbs.org/wonders/Kids/kids.htm" TargetMode="External"/><Relationship Id="rId6" Type="http://schemas.openxmlformats.org/officeDocument/2006/relationships/hyperlink" Target="http://www.pbs.org/wonders/Kids/kids.htm" TargetMode="External"/><Relationship Id="rId7" Type="http://schemas.openxmlformats.org/officeDocument/2006/relationships/hyperlink" Target="http://streaming.discoveryeducation.com/search/assetDetail.cfm?guidAssetID=4F58C801-375D-4CAF-AB2D-169D97CD1B0D" TargetMode="External"/><Relationship Id="rId8" Type="http://schemas.openxmlformats.org/officeDocument/2006/relationships/hyperlink" Target="http://www.manythings.org/wbg/opposites_2-jw.html" TargetMode="External"/><Relationship Id="rId9" Type="http://schemas.openxmlformats.org/officeDocument/2006/relationships/hyperlink" Target="http://www.manythings.org/wbg/opposites_2-jw.html" TargetMode="External"/><Relationship Id="rId10" Type="http://schemas.openxmlformats.org/officeDocument/2006/relationships/hyperlink" Target="http://www.cogcon.com/gamegoo/games/squanky/squanky.html" TargetMode="External"/><Relationship Id="rId11" Type="http://schemas.openxmlformats.org/officeDocument/2006/relationships/hyperlink" Target="http://www.cogcon.com/gamegoo/games/squanky/squanky.html" TargetMode="External"/><Relationship Id="rId12" Type="http://schemas.openxmlformats.org/officeDocument/2006/relationships/hyperlink" Target="http://www.cogcon.com/gamegoo/games/squanky/squanky.html" TargetMode="External"/><Relationship Id="rId13" Type="http://schemas.openxmlformats.org/officeDocument/2006/relationships/hyperlink" Target="http://www.cogcon.com/gamegoo/games/squanky/squanky.html" TargetMode="External"/><Relationship Id="rId14" Type="http://schemas.openxmlformats.org/officeDocument/2006/relationships/hyperlink" Target="http://www.cogcon.com/gamegoo/games/squanky/squanky.html" TargetMode="External"/><Relationship Id="rId15" Type="http://schemas.openxmlformats.org/officeDocument/2006/relationships/hyperlink" Target="http://www.cogcon.com/gamegoo/games/squanky/squanky.html" TargetMode="External"/><Relationship Id="rId16" Type="http://schemas.openxmlformats.org/officeDocument/2006/relationships/hyperlink" Target="http://www.cogcon.com/gamegoo/games/squanky/squanky.html" TargetMode="External"/><Relationship Id="rId17" Type="http://schemas.openxmlformats.org/officeDocument/2006/relationships/hyperlink" Target="http://www.kidport.com/Grade2/LanguageArts/Compounds.htm" TargetMode="External"/><Relationship Id="rId18" Type="http://schemas.openxmlformats.org/officeDocument/2006/relationships/hyperlink" Target="http://www.mrsmcgowan.com/quiz/compoundwords.htm" TargetMode="External"/><Relationship Id="rId19" Type="http://schemas.openxmlformats.org/officeDocument/2006/relationships/hyperlink" Target="http://www.mrsmcgowan.com/quiz/compoundwords.htm" TargetMode="External"/><Relationship Id="rId20" Type="http://schemas.openxmlformats.org/officeDocument/2006/relationships/hyperlink" Target="http://www.mrsmcgowan.com/quiz/compoundwords.htm" TargetMode="External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http://www.mrsmcgowan.com/quiz/compoundwords.htm" TargetMode="External"/><Relationship Id="rId2" Type="http://schemas.openxmlformats.org/officeDocument/2006/relationships/hyperlink" Target="http://www.mrsmcgowan.com/quiz/compoundwords1.htm" TargetMode="External"/><Relationship Id="rId3" Type="http://schemas.openxmlformats.org/officeDocument/2006/relationships/hyperlink" Target="http://www.getreadytoread.org/games/game3/shell.html" TargetMode="External"/><Relationship Id="rId4" Type="http://schemas.openxmlformats.org/officeDocument/2006/relationships/hyperlink" Target="http://www.getreadytoread.org/games/game3/shell.html" TargetMode="External"/><Relationship Id="rId5" Type="http://schemas.openxmlformats.org/officeDocument/2006/relationships/hyperlink" Target="http://www.getreadytoread.org/games/game3/shell.html" TargetMode="External"/><Relationship Id="rId6" Type="http://schemas.openxmlformats.org/officeDocument/2006/relationships/hyperlink" Target="http://www.getreadytoread.org/games/game3/shell.html" TargetMode="External"/><Relationship Id="rId7" Type="http://schemas.openxmlformats.org/officeDocument/2006/relationships/hyperlink" Target="http://www.getreadytoread.org/games/game3/shell.html" TargetMode="External"/><Relationship Id="rId8" Type="http://schemas.openxmlformats.org/officeDocument/2006/relationships/hyperlink" Target="http://www.brainpop.com/science/diversityoflife/spiders/" TargetMode="External"/><Relationship Id="rId9" Type="http://schemas.openxmlformats.org/officeDocument/2006/relationships/hyperlink" Target="http://www.brainpop.com/science/diversityoflife/spiders/" TargetMode="External"/><Relationship Id="rId10" Type="http://schemas.openxmlformats.org/officeDocument/2006/relationships/hyperlink" Target="http://www.mrsmcgowan.com/quiz/compoundwords.htm" TargetMode="External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2.xml"/><Relationship Id="rId3" Type="http://schemas.openxmlformats.org/officeDocument/2006/relationships/slide" Target="slide88.xml"/><Relationship Id="rId4" Type="http://schemas.openxmlformats.org/officeDocument/2006/relationships/slide" Target="slide104.xml"/><Relationship Id="rId5" Type="http://schemas.openxmlformats.org/officeDocument/2006/relationships/slide" Target="slide118.xml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79064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981080"/>
            <a:ext cx="37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resent, pas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e saw a toy in the drive w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saw a toy in the drivew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some 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meone played a trick on h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poem about how spiders avoid their own sticky trap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cribe Anansi and Turtle, making sure to use at least one pair of antonyms</a:t>
                      </a:r>
                      <a:r>
                        <a:rPr b="0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small clever insect.  A spider spins long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 we will read about a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v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insect.  A spider sp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, sticky webs to trap bugs to eat.  Do you know why the spider doesn’t get stuck in its own web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entence Read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d your parents see everybody play tennis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see lots of shells wash up on the seashor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ddy keeps me company when nobody is hom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ill paint a picture at recess when I am at sch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st weekend we drove to  a faraway pla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y three teammates told me the answer after the reading tes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752480" y="3505320"/>
          <a:ext cx="6095880" cy="1734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ideo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ickster Tales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Story, A Story (Anansi tal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thica’s Mathshop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lktales from Af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frican &amp; African-American Folktal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op, Look, Listen: Okey Cokey Karaoke!: Anansi, Cat, and Ra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fish in the pond yesserda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fished in the pond yesterda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i will fished agen tomorro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ill fish again tomorrow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played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play socc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I cleaned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I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I will clean my room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to Tex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 monkey that tricked a hippopotamu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hur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ke a list of animals that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unt for prey.</a:t>
                      </a: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34340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s week we read about characters who had creative idea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191120" y="571500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72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Amazing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eview High-Frequency Words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lphabetical Order to the Second Let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sum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- su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eat it or use it all u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ur fami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huge bowl of popcorn while we watched TV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lot of my extra time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sum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y homework and playing ba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basketball for his birthday last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gave hi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his birthday l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omeone will watch the sailboat near the seasho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on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will watc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lboa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ho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something in the treehouse by our drive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p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ho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y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breakfast and they were everywhe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e broke the egg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fa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they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br>
              <a:rPr sz="4000"/>
            </a:b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been, finally, whatever, today, tomorrow, believe</a:t>
            </a:r>
            <a:endParaRPr b="0" i="1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____ a fish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n you ___ I got my wish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_ will I do with it?” I sa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____ was a great 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m said ____ I could go agai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e said I could ___ take my friend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do not take him, he will not know where I have _____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i want to do some thing fur bil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want to do something for Bill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"/>
              </a:rPr>
              <a:t>do you had any ideas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ny ideas?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ctionaries, glossaries, and names in a telephone book are all arranged in alhabetical ord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ords that begin with a come before words that begin with b, and so 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metimes two or more words begin with the same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this happens, we alphabetize by the second letter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, friend, fish, spider, 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id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, where, 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prey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n animal that is hunted and killed by another animal for foo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mall fish are often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bigger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ice are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of ca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, stupid, 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, tomorrow, 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Alphabetical Ord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8440" y="179064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, cook, 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do we put these words in order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i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Wrap Up Our Week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Creative Idea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goo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en are creative ideas ba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we will read about two sisters who use creative ideas to help each oth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Fri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bout a spider's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 prey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i="1" lang="en-US" sz="4400" spc="-1" strike="noStrike">
                <a:solidFill>
                  <a:srgbClr val="999933"/>
                </a:solidFill>
                <a:latin typeface="Verdana"/>
              </a:rPr>
              <a:t>take our story tests.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Quiz # 904599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523880" y="1752480"/>
          <a:ext cx="6096240" cy="3989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Cause and Effect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3"/>
                        </a:rPr>
                        <a:t>Kids' Africa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4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5"/>
                        </a:rPr>
                        <a:t>Explore Africa with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6"/>
                        </a:rPr>
                        <a:t>Anansi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ream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7"/>
                        </a:rPr>
                        <a:t>A Story, A Story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8"/>
                        </a:rPr>
                        <a:t>Opposites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9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0"/>
                        </a:rPr>
                        <a:t>Squanky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1"/>
                        </a:rPr>
                        <a:t> the Tooth Taker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2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3"/>
                        </a:rPr>
                        <a:t>Quiet Quest for Opposites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4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5"/>
                        </a:rPr>
                        <a:t>Game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6"/>
                        </a:rPr>
                        <a:t>Go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7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8"/>
                        </a:rPr>
                        <a:t>Drag and Drop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9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0"/>
                        </a:rPr>
                        <a:t>_x000b_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8" name="" descr=""/>
          <p:cNvPicPr/>
          <p:nvPr/>
        </p:nvPicPr>
        <p:blipFill>
          <a:blip r:embed="rId2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elated Links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523880" y="1752480"/>
          <a:ext cx="6096240" cy="3805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2"/>
                        </a:rPr>
                        <a:t>Click the circle to make a compound wo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3"/>
                        </a:rPr>
                        <a:t>Get Ready to Read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4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5"/>
                        </a:rPr>
                        <a:t>Online Story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6"/>
                        </a:rPr>
                        <a:t>_x000b_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7"/>
                        </a:rPr>
                        <a:t>Compound Words G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8"/>
                        </a:rPr>
                        <a:t>Spiders</a:t>
                      </a: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9"/>
                        </a:rPr>
                        <a:t>_x000b_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 Webs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bcbcb"/>
                          </a:solidFill>
                          <a:uFillTx/>
                          <a:latin typeface="Arial"/>
                          <a:hlinkClick r:id="rId10"/>
                        </a:rPr>
                        <a:t>_x000b_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" descr=""/>
          <p:cNvPicPr/>
          <p:nvPr/>
        </p:nvPicPr>
        <p:blipFill>
          <a:blip r:embed="rId11"/>
          <a:stretch/>
        </p:blipFill>
        <p:spPr>
          <a:xfrm>
            <a:off x="4267080" y="571500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hrewd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or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very clever and smar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Dad told me to b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deciding what to do with my allowan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etective made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hrew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lan to catch the thie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day we’ll learn about combining two words, such as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sail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336699"/>
                </a:solidFill>
                <a:latin typeface="Verdana"/>
              </a:rPr>
              <a:t>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, to make a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o read compound words, first chunk the word into two wor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ad the two words and then blend them into one word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Let’s blend this word together: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il-boat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omeon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bedtim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nowstor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anc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may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dayti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upcak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li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aysta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net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9999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Timer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76360" y="16002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choolyar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everyth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athtu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aindr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brainstor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lipstic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irpla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520" y="1790640"/>
            <a:ext cx="29718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che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nowflak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05160" y="179064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sho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eke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nt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cky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bys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en you read compound words, chunk the word into two small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Read the two words and blend them into one compound wo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’s Talk About: Creative Ideas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Student Pages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09120" y="-609480"/>
            <a:ext cx="8534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hir purse is durty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r purse is dirty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tirtle ca’nt run fast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urtle can’t run fast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Jeb bakes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tells about now.  It ends with –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baked tells about the past.  It ends with –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b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verb will bake tells about the future.  It begins with wil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Review Gam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179064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480" y="179064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Fill-in-the Blank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invents new kinds of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sprinkles coconu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added pineappl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will use squ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will make my own muffi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if the verb tells about now, the past, or the futu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e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ew kinds of muffin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kl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coconu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ineappl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xt week 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us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quash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the future,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mak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my own muffins.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about a trickster named Anansi who gets tricked himsel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 a paragraph about a time when you were shrewd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19112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someone tries to trick you or when anyone lies to you?  What is something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do you feel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ries to trick you or when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lies to you?  What i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you can do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  <a:ea typeface="Arial"/>
              </a:rPr>
              <a:t>Word Reading: </a:t>
            </a:r>
            <a:br>
              <a:rPr sz="4000"/>
            </a:br>
            <a:r>
              <a:rPr b="1" i="1" lang="en-US" sz="3600" spc="-1" strike="noStrike">
                <a:solidFill>
                  <a:srgbClr val="dddddd"/>
                </a:solidFill>
                <a:latin typeface="Arial"/>
                <a:ea typeface="Arial"/>
              </a:rPr>
              <a:t>Pick out the compound words in “Mistake in the Lake.”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123720" y="2171880"/>
            <a:ext cx="533412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p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rowb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ts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Grandm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unch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un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alf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ome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752480" y="3505320"/>
          <a:ext cx="6095880" cy="1734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boas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meone who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brags or speaks too well of himself of herself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girl alway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her grad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Jim says he can run faster than I can, but I think he’s jus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boas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glo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think about something you’re very satisfied with,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bou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two farmers in the stor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at their machines would get rid of the mic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y big brothe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glo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his team’s first win all s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snicker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 - 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you giggle or laugh in a mean wa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one farmer saw the other’s mouse-catching machine, 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kid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nicke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t the strange-looking ca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t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Sort Compound Word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90720" y="1087560"/>
          <a:ext cx="7848000" cy="5770440"/>
        </p:xfrm>
        <a:graphic>
          <a:graphicData uri="http://schemas.openxmlformats.org/drawingml/2006/table">
            <a:tbl>
              <a:tblPr/>
              <a:tblGrid>
                <a:gridCol w="2616120"/>
                <a:gridCol w="2615760"/>
                <a:gridCol w="2616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Wor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8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rand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ow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unch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alf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un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ow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lf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p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m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at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id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a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screen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basketball in the drivewa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birthday party will be in the backyar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riverbank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8880" y="63936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Big Question: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creative ideas good? </a:t>
            </a:r>
            <a:br>
              <a:rPr sz="3600"/>
            </a:b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When are they bad?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popcorn before bedtime on the weeken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play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sketbal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drivew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irthda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arty will be i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ackyar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see frogs and birds by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riverban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 hav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opco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befor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dtim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on the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weeken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ause and Effec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st things happen for a reas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ood readers ask themselves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ords like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can help you figure out why something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s you read, ask yourself what happens and why i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for clue words, such as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that signal cau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hen you read a story, ask yourself questions like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o is this story abou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does it happe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Monitor and Fix Up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don’t know the answer to a question, then stop the way you have been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 might need to slow down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f you read more slowly, you can better understand what you are reading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Trickster Tale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479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ometimes characters try to trick one another to get what they want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High-Frequency Word Review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52480" y="179064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o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rough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52520" y="179064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atch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ev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elie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t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nall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answer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600200"/>
          <a:ext cx="2590920" cy="41911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az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a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licious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ustic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724280" y="1600200"/>
          <a:ext cx="3927600" cy="4460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su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rew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as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oa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nick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ntentm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ur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id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zy – not liking to work or be acti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ave – to form threads into cloth or web or to make straw into hats or bask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licious – something that tastes really go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stice- something that is fair and righ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Times New Roman"/>
              </a:rPr>
              <a:t>Vocabulary Words</a:t>
            </a:r>
            <a:br>
              <a:rPr sz="4000"/>
            </a:br>
            <a:r>
              <a:rPr b="1" i="1" lang="en-US" sz="3200" spc="-1" strike="noStrike">
                <a:solidFill>
                  <a:srgbClr val="dddddd"/>
                </a:solidFill>
                <a:latin typeface="Times New Roman"/>
              </a:rPr>
              <a:t>lazy, weave, delicious, justice</a:t>
            </a:r>
            <a:endParaRPr b="0" i="1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watched Little Spider ____ a larg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ig Spider felt ____, so she did not help Little Spid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ate a _____ bug that got caught in the web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ttle Spider said, “Too bad you’re hungry, Big Spider, but that’s ____!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-22860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last week end I sent a leter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t weekend I sent a letter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my mom red a story at bed time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mom read a story at bedtime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tells what someone or something do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verb can show actio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can show action that is happening now, has already happened, or is going to happ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Grammar:  Verbs for Past, Present and Future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fish now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now. (presen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fish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esterday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past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fi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fis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(futur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Review our day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omorrow we will read hear a story about another very tricky character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Tues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ink of a time when you had a good idea and tell what happened when you used it.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9511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Yesterday Farmer Smart had a problem.  Today he finds a way to fix it.  Tomorrow he won’t have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Wednesday 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 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Farmer Smart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d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problem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finds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a way to fix it.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he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won’t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have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the problem anymore!  How do you fix your problems?</a:t>
                      </a:r>
                      <a:r>
                        <a:rPr b="0" lang="en-US" sz="4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4343400" y="5638680"/>
            <a:ext cx="95076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onday</a:t>
            </a: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ive ideas can solve problems or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r>
                        <a:rPr b="1" i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questions.  When are creative ideas good?  When are they bad?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267080" y="5791320"/>
            <a:ext cx="951120" cy="91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Today we will learn about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217152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Amazing Words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Long o: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, oa, o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mpound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igh-Frequenc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Verbs for Past, Present, and Fu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  <a:ea typeface="Arial"/>
              </a:rPr>
              <a:t>Anansi Goes Fishing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752480" y="3505320"/>
          <a:ext cx="6095880" cy="1734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99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ontentm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 – tent – 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a feeling of being pleased or satisfied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dog stretched and sighed i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fter dinner, we sat around the campfire in complet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ontent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cu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someth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you, it makes you feel better and healthy agai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e medicine the doctor gave m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y rash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cientists are searching for 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r many different disease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Verdana"/>
                <a:ea typeface="Arial"/>
              </a:rPr>
              <a:t>inciden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 – ci - 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something that happen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hat movie had some very exci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n i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om told us several funn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ci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rom her trip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Making Words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 – o</a:t>
            </a:r>
            <a:r>
              <a:rPr b="1" lang="en-US" sz="8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d – g – l – m – t – w</a:t>
            </a:r>
            <a:r>
              <a:rPr b="0" lang="en-US" sz="6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276720" y="1523880"/>
          <a:ext cx="3047760" cy="4524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5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liev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hatever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d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morrow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High-Frequency Words</a:t>
            </a: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whatever, tomorrow, finally, believe, today, caught, been</a:t>
            </a:r>
            <a:endParaRPr b="0" i="1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Sunday morning and said, “____ I don’t have to go to school.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love all kinds of foods and will eat ____ Dad puts on my plat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you ___ fairy tales are true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esterday I went fishing and ____ three fish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woke up on Thursday and said, “___ is Friday!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have ___ sick for three day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 can’t wait until I’m ___ old enough to driv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dddd"/>
                </a:solidFill>
                <a:latin typeface="Arial"/>
                <a:ea typeface="Arial"/>
              </a:rPr>
              <a:t>Compound Word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made up of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e meaning of the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compound word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is often made up of the meanings of the two shorter wor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two words do you hear in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What does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sailboat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 mea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33"/>
                </a:solidFill>
                <a:latin typeface="Times New Roman"/>
              </a:rPr>
              <a:t>Anansi Goes Fishing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95280" y="1600200"/>
          <a:ext cx="2057400" cy="4038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hen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gla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et</a:t>
                      </a: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733920" y="1600200"/>
          <a:ext cx="4917960" cy="4535640"/>
        </p:xfrm>
        <a:graphic>
          <a:graphicData uri="http://schemas.openxmlformats.org/drawingml/2006/table">
            <a:tbl>
              <a:tblPr/>
              <a:tblGrid>
                <a:gridCol w="491796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sketball        driveway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one         bedtim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weekend         raindrop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omething       mailbox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irthday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grandparent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iverbank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rattlesn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thtub            </a:t>
                      </a:r>
                      <a:r>
                        <a:rPr b="1" lang="en-US" sz="2400" spc="-1" strike="noStrike">
                          <a:solidFill>
                            <a:srgbClr val="999933"/>
                          </a:solidFill>
                          <a:latin typeface="Arial"/>
                        </a:rPr>
                        <a:t>earthquak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cc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ckyard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freida</cp:lastModifiedBy>
  <dcterms:modified xsi:type="dcterms:W3CDTF">2008-11-28T01:45:03Z</dcterms:modified>
  <cp:revision>27</cp:revision>
  <dc:subject/>
  <dc:title>Slide 1</dc:title>
</cp:coreProperties>
</file>